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956-CA48-4FBA-A615-6DFC49CD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A96-3FC7-4FFB-B564-1B0CD5E3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0372F-BE61-4CEC-ABA4-CD90BA6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171EB-0248-4D41-8C5C-876CE902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72F9-21B2-4250-9B52-9138B67D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F7A30-A253-4C7E-9495-86F1116B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79957-AAE4-464F-AD58-5AE3BDB3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8ACDB-F23C-4DA3-84F3-97751C9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A8A9A-2D9A-4122-BB7B-4ACEE522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B18B8-F213-4BD4-89F6-1E542A42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F0993-F67B-4E3D-AECB-3733F820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4D11B-B1E0-49B5-976C-C0B884C2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30D-C357-421C-8948-56994AD7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A81C-B4CF-42C1-AC26-C29AE18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F33F7-6779-47C3-B311-17AF2C2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B5265-ECCD-4347-AC8C-BD93BD8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6DE9D-8360-4430-99D5-CE960A3A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984C5-9D9B-45F6-86FF-7B086F4F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83584-126A-4115-86B7-6EDB016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E884E-452B-46DB-9515-62A6F08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07078-5245-4142-AC2B-0FF69FA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95301-035E-4113-AD53-9BACB35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521AE-36C5-4440-8CB1-B62D0A4F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C2E-7D07-4FC7-B932-2282174C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7C93B-21FF-4E42-856D-3BFA7735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43C33-282F-413E-9FDE-D099AD32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6F07C-3B93-4D05-A26B-F8A009EA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79D6A-0C91-4AD4-87A9-D52DB3DB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988BE-C413-427D-B30E-6EF1A05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F91F9-99A6-4340-941B-0C7B7DAA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588DF-46A7-4924-8920-74FFCD3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74DC9-5C3D-457F-8AAA-6326CF0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DAB5F-A353-46D6-A34D-1B402C9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50CC-325D-4C49-AE7A-312B207E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C860-CD07-4035-8868-A2CC2DAE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F73A-7565-41E1-B9F1-60B4AEC8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7E9CA-9AE1-4BA2-BE28-4C5546A5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5531-B787-408C-9FB3-2632F51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96372-F3B5-452A-B55A-4177F411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0DB96-B7DC-4EF6-9B42-22BCD17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DE1C0-B803-4D1C-BD7E-B5FDE7A6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AA9A-F245-43DD-8D7C-5002F8F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8759A-86F8-44C7-A2CF-ABB7D3A0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D169-0E64-4A9A-9A2F-5489C1A0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9464A-465B-47CC-B934-808FBFF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4FA-801C-4042-B575-E55AEA3A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77C68-E15A-4730-831F-04139D2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48EAB-5CF1-4385-A5C4-2E34BA1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9715B-3129-4D02-84B0-4883B3A0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461AA-827F-44D5-B7DE-AFE3CC11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F6A9C-2950-4E50-A127-EF849A53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BF8BC-FE5C-4D35-BF9E-2831C155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B3113-6075-4115-9AAD-5738F8E6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9D9B9-5FCC-46BB-A45B-E85E21DC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4BE6D-6253-4B19-9BC4-4CE9F07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DE064-BAE6-4293-B830-698D79F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8E9-E5C8-46AF-90D5-8F9D03C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F0377-A42E-4D3A-B67D-073E53EA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89D08-A75F-4D25-AE4D-B14077D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A25ADD-CA77-45A5-B368-E0B0C3D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1BA22-F535-494A-9DBF-88D5DD8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2F8BC-7C51-4A38-A125-2A5E776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D4D32-DF6A-4E61-A25F-04752955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5BFC3-D07B-4968-A5B9-7D67BC68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31D1DF-F7EF-4319-8ACF-CB1F7620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3A3DC-DEFF-4EAC-94DE-3A6B65B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FD1C4-EF6F-4F13-B6A0-0B9BAEC1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039-2B8C-4B89-88F8-3FF4F19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2ABEE-A3F7-4E5B-98AD-723D5F7D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EBBD6-7B70-436F-BF7A-DD427D0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F066A-9B77-47F8-A0F7-2AF65E8A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AA9E1-A3A5-41EB-8BCD-9F7D7A6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61324-6028-4E8A-A423-BE9BCE5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1FDDB-E258-440C-AD46-8EBA8EA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B802B-B1E5-4BD5-B2AF-2130089C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17340-B0BE-491F-BF2C-923AD0A1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FD796-1986-47E9-AFC6-4D5BD453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A5AA1-04BB-4CB0-875C-91C67339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1192-4AB8-443B-A2E2-9D32425A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AB264-5B5A-4702-8D0E-0CA1FE8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6B381-505F-4C5B-80AC-5D3F608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32369-81C7-4530-9197-A6C118C4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C588F-A854-4556-ACC8-31943669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5B50B-7C1F-48A4-8153-170CF44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64928-21C1-4F10-8DE1-690A4C1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BB9A2-30E2-4551-9555-E1C4D98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4D50E-129F-4B78-9BE5-04A92F6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0F2AE-99AE-426A-B065-838FFA3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054A0-C106-468B-8A1B-CFFAC797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035-9345-4BC2-AEBE-34CCF79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FCA25-0F08-4E99-81B4-88199818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B7405-061C-4234-862F-91616194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6EE3D-8FDC-4032-8467-6B9C6BF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86780-480D-4AD0-85A1-2D9D88FD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F8093-938D-4901-ABE7-A4400237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77F9B9-56FF-470C-9C0F-6C80907B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8C705E-AA2B-4E2E-B4B5-57C91B0D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3DF80-F428-4D30-8431-897F711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7D006-871B-48E1-98AE-03F8C97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8DFF3-5815-4BDC-9484-9C63FD6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3EB-9543-4C67-885E-7752AF8B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C286D0-A5CD-4597-A06E-6589D7C5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2E012-82C8-45C8-BCD4-490C9D48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18D67-D522-4736-A57A-B4ACC6EE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CA8ED-ED8D-4E75-A0B9-D1227F55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3817C-AF4B-4381-A787-E0889935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F9605-E044-4CB8-AB8D-C1C71747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34BC3-5C7B-4860-97C9-EE3D9DB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CB54A-56F8-4AB4-9179-E102A937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ABC2D-6D6D-4F8F-B9CA-79A5EDF1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A3337-31FB-4984-9E7D-998743C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77B-E699-4BD0-AC2A-9179E472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5E0-9271-4938-B30D-0A2991D2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CEA94-DB47-4135-93BA-880DF64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B3D02-6632-4935-8965-8A3D86F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57223-F9D3-484A-91EE-D1E9A52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13E2E-4306-4446-8599-F20D6B76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494D0A-813D-49A0-94A4-462C9F23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21D67-49A0-4260-AFAB-04D45F53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37EB7-90A9-4F73-87E5-27065D93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6E678-A691-4730-9A88-E51F734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303FE-3B5E-4E3A-A2C8-908BE633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DDC19-8BA2-44CC-A7D5-62EE2040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B26C-1C2E-48AF-821E-0A44D43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D4110-252E-473A-BF03-B6699A83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2C6BA-833F-4DAD-BE24-BEF0F1F4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6A8E12-77B7-4BBB-B5D3-DE5FC81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515E0C-2D2A-4F8D-BD5A-A3DE9FCC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4AA2D-7BC9-4DB7-B899-DFE548F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1EF90-4F86-40FC-B32C-92CD9A0F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D5098-E54A-4151-8A38-0CF5FFF6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8A13F-F745-4163-819B-CABDE711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91DE7-4153-4D5C-9A8E-74FDF61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7E314-0DF2-4596-88B2-5FCD8EA8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69C8-16F7-4662-A3E9-B36ECD3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CCFB7-424C-4879-8B3F-9174338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A920C-6439-4236-932F-04A30956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5655B-C57D-40AE-AD35-6EFF3D18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5877A-B875-45A5-81E2-07C53468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45069-54B0-41CD-B1D0-85EF3221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FC511-75DA-4315-BC9C-89CFB243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8CD9C-41D9-42BF-96BC-4560E02B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51404-6618-42FE-B7EA-2B6999E2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45E49E-37B3-41A0-B3CF-35E8982B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9BB73-F7CD-4F7E-90A8-E0C88F50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C24E-3C86-491D-A6B1-FD8868DF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4A9EE-3F53-4151-BF07-E3DB462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20A40-C212-4844-9495-DE5C61A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F8700-F24A-41D6-819A-F91727D0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860D4-959B-4617-B409-92D67C5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8B4FE-C2F8-4491-A787-DF24004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157DB-E613-450B-A7FC-39F7798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4DA26-5C85-43BA-AE86-4FA2942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CDCA2-20FB-4116-AD13-7A93BB4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0EC83-0951-402F-8189-2BE0799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64D64-3886-4505-A63E-FD8CCD1B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3454-024B-4AA8-954F-B91AAB75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EE3B9-3A66-45B3-870A-59838139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844E06-6588-44D3-80CD-B82E1D87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CF145A-4F8E-43B9-8005-6E8732D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6AE442-77CE-49C1-9083-5BB015BA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D3807-1E69-4150-9221-25B2406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09EA5-E8EA-47BD-BB0C-3676C262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2D0552-B060-4E72-AA3D-BC0227CD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1ED042-E4E1-477F-9866-CCA15B0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6D435-DB56-445A-A546-82E85D7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C42F5-7441-46CE-A9B8-4E83B0D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15B9-2247-4172-A1F2-55722668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DA3A8-5DFC-4218-99DF-B35B26FC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4F385-B5E1-437B-8422-38CC7971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CA5228-1CB4-48E0-A5C3-BAE1761A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0B6467-D2F1-42A6-9AD3-1D3DC5E5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6ABCB-8900-4A54-B334-241C64AD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0D485C-6245-4310-AFE5-4997DA37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90754-0F7A-4B3D-AD50-0255C80E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FA6BF6-26C2-4680-BD0B-704FF31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846739-4CD9-479B-96BE-F82890B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DC02D4-BED2-4B62-A98D-C237A2D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8C55-9406-4552-AC86-452C10D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94A4D-F4F0-4FF2-8A1E-0DFABFC8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6B000D-F59C-47B2-B884-D270D692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D161D-8168-47A5-8FF5-0462C620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74803-060C-4A9B-80DD-66BEBAA6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17929-D8C3-4045-91CD-41AC42F6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23E83-0042-499A-9026-7F89C644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CA354C-2156-413A-BE40-C6FBF50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3ADD8-0934-437A-8877-CA2803A6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9969B-37C8-43F2-9606-9187B5A3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6D305-F71A-4D4C-81B6-FC02CA18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212F-A23E-4AFA-8AA3-F18B5397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E5EBC3-57E8-4375-991A-4633BCCA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F44504-B59F-4F0A-9DD0-B0761F52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7D4F17-D703-4449-AAC7-766BD15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E80328-B559-4DC5-BAEE-36E3FE6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A54A7-23BF-4473-9542-67ABA15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2F3035-8777-4DFC-9DB5-8725F921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AF756-6E30-43C0-AD0F-16C60716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51515-4C77-402F-88B1-CAB546E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7353-2335-4A75-8881-7FBFBF18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769-3ED9-4312-A419-23176C37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F87F-FFEE-4AAB-8766-7D2F1BD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1BDA-AEB1-46B4-9EEC-EDAC9677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B94F-D56B-49B5-98EA-B7F2628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75F5-C51C-439D-86AC-CB6FEA8F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E8FB-69E8-4383-B40E-E6066F2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59C0-42F4-4B71-945C-6DE4D9BC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89A5-0407-43CA-B4A3-A30D18C6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EDEA-8DDC-448E-B775-B2CECDA1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704A-23D3-48A0-A551-DD81A0B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339E-98E9-4B49-9B9B-9944277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DF0-7382-4EC8-B262-A74C182D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4FB8-B049-4B9F-AA88-C677B6E9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4862-116F-4E7A-84F8-48166CE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EC797-0CC9-48D3-BBE0-26C119A9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F888-3F8B-4DD9-8545-9536FC7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F723-7259-4D96-876A-786CEABF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BA19-68E3-4C08-9B17-AAAD1F4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61B4-6F3E-4A4B-B309-35E5899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0494-DCB1-46D2-A077-EA68A5A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2F05-8A5A-477C-B184-C0336AB9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24EA-C84A-4166-8D2C-2ABAC33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336-7ED5-4FE3-8429-DA2ABE24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82B3-C2BD-4211-AFA0-5A0AE3E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3940-97F9-4098-9AF8-441E931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5B5C4-919D-416F-9646-0B8B068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931C-2B4D-48A5-A036-E3D1C8A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7F33-C351-4663-BCBC-1D0105D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6B73-BEBF-4617-92AD-4447205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DEA0-3B2F-42DC-A459-EDCB859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F210-6B4A-4928-BD00-896BE6BB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2EA94-831C-43C4-8048-E6F2064D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7632-2DCB-44FB-BC22-B3F8D65E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E2FC-6CE3-4FB1-A73E-1207D281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94E8A-1FA8-403C-865B-2F17A94F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37BCF-BF08-4BC8-BB3D-EF51E83C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6CDE2-B231-4ECD-9F51-3CF4587D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9DE7-8881-4A2D-B95A-CCCFD2A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4737-ACCE-46D8-BE68-E80C66EB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CE26-513E-4D77-A661-2E91E50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9A0DB-9E35-4F53-ACCE-83AA7B4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3C01-4628-4EB2-849D-9820945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5515-8386-420A-8897-C022E7A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961B8-DE1C-48C2-92A4-1002717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E26-CB24-4657-8E88-CA33889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EECE-42E0-493E-A218-66C1E20C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E377C-B1FA-4872-A315-E941E9A3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0143-DF9E-43CE-B0D7-AA6B9C9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D4688-AFF9-4038-B0B9-D222DFD1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EF19-BADF-4E2B-8B09-642FAD5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E3FA7-9865-40CE-B9A6-AEE2A62D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44CA-B2B5-4CB7-8122-D58AC10A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A70C-B36F-4E52-BFE9-89C2E545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9119-A666-4945-BF3B-E405664A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7C418-A45F-463C-9CE3-F28A5A2D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E3A-0183-4D55-944B-8A63BD48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2A03-296C-4335-817D-0F0F1C6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3178B-EAA6-4ACE-BF86-3BC15D8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37EA9-602B-4D1C-933C-8B43D7C5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D5E5C-59EB-44AD-94A5-62C0B4E8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E0309-2CEB-428B-AB37-B258DD61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53AD-7CB9-4825-945D-BE5976A4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B296-2FB2-4602-87D0-D7DFA7C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5F0A-3001-4827-AC52-27D7A98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3C0E7-C267-42F4-8D4F-BF08F19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05A14-FDF6-472B-A355-F7B2022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E98-703B-4305-A4E1-1A16B31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356DA-9F81-4953-930F-F2C4762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EC906-5297-4FF4-94A8-52287818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A47A-D16B-4A12-B09D-B424026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B8315-956F-4B2F-8291-1D900BF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844A-91F9-4493-B2C1-F3DAAB7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FDC6-4D55-4643-B15D-9176363F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313A9-7657-4079-B0B0-37C9DB05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9E9E1-9CA5-4965-B7C2-62AA3AC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EC482-21DC-4AC4-8BB7-9D40D63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808ED-4D1C-4597-87F1-3029B798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DAA-336C-4274-89F1-4D58EBF33F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0996-953D-4C56-A453-DF8F4C263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F93-4DE1-4648-B0F6-D0424EFDE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5F61-2A59-4779-A8F3-53CCE6D0F1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37B-E8B7-421D-AE22-B79CABB2A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A60D-D845-4455-99B3-0BB06D90A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37B0-FEB7-4333-8C5B-8ABA4B3479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42C0-07C5-44C6-9C80-561C8A5B2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EA7B-EC57-44CF-BDE7-4823188BAD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9C5B-BE00-44DF-8903-C5F28941D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811D-4E41-44A9-BEA1-B767CB2D19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A681-3625-4638-81C3-47F15C70B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9A27-13B6-44B5-9177-9DA01353A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7862-56DC-4C94-AE3F-55E165C19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20F-65DC-4094-B2C2-EA193D806C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EE52-C837-4295-B0C7-4086FF8786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0732-AAC6-4FDE-82B2-987F9C546F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2E2-673E-4B7F-869B-38CB9FC9A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5EBC-5DE7-41E9-AF0F-984D8C2D1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943-B91A-49D9-A429-9B47094FE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1539-C5AF-4AA3-AAD5-14E71C801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13EE-BCA4-4776-BADE-BE44DBFAB3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52D-6FCC-4BCE-896C-CF4BC3D58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BAB-B18F-46E5-AC92-4AC6FD8AA0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4C6-DF71-4828-A707-856A19FA2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B12-A739-44E6-9AE5-D0419D10D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90E9-8A0C-476E-A9B7-900489AB0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A72-E7C8-44AC-9BCC-A35D70E1B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A6B2-B190-4914-9282-5F7ADBFB97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E9D-135B-49C3-A493-17D1691F1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886C-F647-47C0-91E4-2CE1A8F46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DF4-1C4F-412B-A091-B0AB2BD117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78C4-115D-4A09-9A2A-0EC598B821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14A-16B1-4B83-8C54-F5CBC85A6C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A31-BA88-4026-B532-41DFF69955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C744-474A-4782-BF3E-C3A93549A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E76-7811-43C6-B8E0-963994001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FCE-051E-4589-9772-6D08277932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3242-999C-4A13-8985-0A53990046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7BD-23D9-4BAD-82B6-C803A5F1C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A86D-C6B1-4BFF-8908-6D67E58A27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69D1-B394-4179-9525-8EE9C632E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409840" y="3076560"/>
            <a:ext cx="43243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28520" y="981000"/>
            <a:ext cx="8886960" cy="4896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649080" cy="247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303048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076720" y="2421000"/>
            <a:ext cx="649440" cy="2476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7800" y="2205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8236080" y="2421000"/>
            <a:ext cx="649080" cy="2476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1847880" y="3741840"/>
            <a:ext cx="649080" cy="247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005280" y="3525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5038560" y="3741840"/>
            <a:ext cx="649440" cy="2476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6170760" y="3525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8248680" y="3741840"/>
            <a:ext cx="649080" cy="247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3957480" y="5013360"/>
            <a:ext cx="68580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8925120" cy="6333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468360" y="663480"/>
            <a:ext cx="439092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68360" y="1009800"/>
            <a:ext cx="439092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24360" y="236376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5724360" y="2781360"/>
            <a:ext cx="863640" cy="2602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211640" y="342900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4140360" y="4753080"/>
            <a:ext cx="360036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8"/>
          <a:stretch/>
        </p:blipFill>
        <p:spPr>
          <a:xfrm>
            <a:off x="4140360" y="5129280"/>
            <a:ext cx="36003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9"/>
          <a:stretch/>
        </p:blipFill>
        <p:spPr>
          <a:xfrm>
            <a:off x="625320" y="5921280"/>
            <a:ext cx="1800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9:46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